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590C-6EBE-4855-A226-DEB5CE56E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5F70-5880-4800-9C8C-E983013A7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950-1193-44A4-9626-429F6CE0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43E-6690-471D-9447-D69D64A7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D3C-A7D2-48DC-947D-534C00AA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B5C-200B-47ED-9812-80341577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8CF-8D06-4D72-AFA4-970A3A6E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320-7109-482D-93C0-8D83956F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51F-3F2E-408F-8D31-A47F22AA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CB6-8505-4551-82FC-3D6FC6DC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47E-F3A3-4FE0-B863-7EFB10B8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F9B-1643-4DE8-9F45-A793B0C0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C12-731E-4FF4-BEA2-9CF40587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ACD-FB75-453B-844C-F7AB2E69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6BD2-66F9-4CB3-8422-0770EA6F9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 mis amigas! Yo soy muy aburrido! Mis vecinos son muy enérgicos. Ellos s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uenas Dias ManiI! Que pasa mi pequeña nin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6:59Z</dcterms:modified>
  <cp:revision>104</cp:revision>
  <dc:subject/>
  <dc:title>Profile</dc:title>
</cp:coreProperties>
</file>